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6B0-C8A7-4079-B44C-47C386EC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1F1-5A37-482B-821D-26EDDC5C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CB9-49C0-4018-A03B-CAB38BCA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54D-A3FF-436E-8FF3-47B879BF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97F-C441-4A24-99A1-362257DC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DE6-DF93-4DAB-86CC-4D63B7E6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3F5-4A4A-4260-ACC9-E37D683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917-8AFB-4B04-84C0-ED3B6535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CBA-F8F3-4D99-AF9B-5676B43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8D4-C8D1-463D-A406-CFBDF10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10E-9896-4C24-89CC-E069A185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560-63AD-4FE1-AB5F-18312BB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7B25-A1E7-4AD7-AE68-E0BC0B157FE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quick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xecute shell script “install.s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./install.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8192C USB Linux driver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192cu_linux_v3.0.xxxx.2011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tar zxvf</a:t>
            </a:r>
            <a:r>
              <a:rPr b="0" i="1" lang="zh-TW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rtl8192_8188CU_linux_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v3.1.2590.20110922</a:t>
            </a:r>
            <a:r>
              <a:rPr b="0" lang="zh-TW" sz="2000" spc="-1" strike="noStrike">
                <a:solidFill>
                  <a:srgbClr val="333399"/>
                </a:solidFill>
                <a:latin typeface="Arial"/>
              </a:rPr>
              <a:t>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2) step2: make 8192C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drive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./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0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up Network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3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e Survey &amp; connect to AP without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georgia</cp:lastModifiedBy>
  <dcterms:modified xsi:type="dcterms:W3CDTF">2011-09-22T07:52:27Z</dcterms:modified>
  <cp:revision>139</cp:revision>
  <dc:subject/>
  <dc:title>投影片 1</dc:title>
</cp:coreProperties>
</file>